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5185C-0301-41BB-A376-57C79C08F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1927C8-C658-43C5-BAD4-E8B868E59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E2272B-00FB-4750-A1AA-B1CF67A0CA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A34384-55DD-401D-92DE-7C08AD9D1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8E2E32-04CE-49C5-8FA2-DAB37E5BA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C098C2-5A27-4AB7-8FC0-846D197E1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89A1BB-01A8-4D13-9F45-EE2752195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5F9761-6913-41F9-BCFD-93353FC5C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7F9DC9-C565-4ABD-9062-37E9C9359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D764F5-7FDF-4FD6-8F50-6969295DF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BF3F13-2A94-4F9F-B392-9F93549EC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3541A1-193A-44FA-A331-61AE8A7158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F04C-920C-4578-A7AD-38027FADAF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arrow" w="med"/>
            <a:tailEnd len="med" type="arrow"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arrow" w="med"/>
            <a:tailEnd len="med" type="arrow"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